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F21-5758-463F-94EE-227AF110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136-103E-4EEA-8F01-D6847658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D1B-2A02-4816-99EB-5CCE9794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84F-7FEB-46CE-B062-5F16F857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F28-C9E5-408F-B5D4-48660BC7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97FA-D157-4C68-9EF2-0E0BDB6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0D2-2880-4F3A-B6AF-B8AD583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1B1B-65CA-44F4-9E74-65BF85DD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B514-4063-4705-8E04-CFB3C0C1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4D6-5A76-4394-9B55-BE8663C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7E5-5E18-4A08-AD46-334529B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9DD-FF9C-4E60-A825-0E0EC85C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4D05-27D9-4CB8-BFA5-E4A52CDC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68F3-A257-462A-96CC-9C4C8B6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6851-7677-46F6-B81E-FFF9990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25A6-07DF-4C3B-9CC5-E846C8DE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C153-08D2-411E-9539-F5D40240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255E-0F9F-4703-8321-1CFF53B4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8F1A-699B-45D6-B563-AEC67757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6F5A-CBD2-4DCB-80D5-48945D86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78EB9-C67F-4048-BDED-428F5DF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E9D6-9CDE-47B5-B3BF-6750BFDD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2F2-FC7B-47B8-A6DC-224A892A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0EAAA-1048-4988-AC8F-9EB24AB5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A2DB-2A11-4F30-9D02-94A4878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9298-CD3C-4E70-9A37-EABEB59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5AE5-2281-4EBD-93AE-F91B81B7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0B5BD-A49D-47EB-A3CB-BCE8348F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505D-9E3B-446B-B9BC-DBBC3553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3BD3-0888-4740-8F46-A32A75E3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C3E9A-880A-4B1A-9496-10ED479D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9F247-EA2F-4688-AC29-9960F74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1A44-ADC2-484B-AD6F-2D8433DE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A5E-9C16-43E6-A11B-91D74BC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9D7A-2152-4CDD-B89F-6E6EC71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1DBA-05C9-4616-8802-855AD14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B6292-4DC5-49E1-9A99-F1C520E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6D349-5544-4CB6-93D3-4D8C914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AF8E-077A-436F-94FB-397C7CB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18EC-8E93-44D7-B62C-6AF6B95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6036-57EF-4241-93B0-A30E6E18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D2A0B-BEDF-4932-84C8-A6858044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C5A9-E452-4380-9E92-857B268B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1B99-0D29-4ED1-B2BB-F66A28F1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2C1-602B-4F84-BABB-A4136E7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05C89-45F1-4366-82F9-9A7D442E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3C767-4523-49EA-8644-9730B7B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E7161-1E1D-4501-954A-E5AE4FA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66BB-A89D-4424-9185-52F43545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657F-B2E6-4D72-8B29-DE1F07CF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0F99-C059-4E2D-B3F0-58A0008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D1B17-FFE5-4608-9B23-E59F53AA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9983-7E8B-4145-A514-948E660B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282F-2C09-425A-B8CC-E446B0F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9B62A-E7D1-4ACA-8E37-0CF5EAE4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679-5DC0-4382-9C64-927998D1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5824-B7E9-4147-BB8D-BAA0DE4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C630-1537-4743-9684-D12D999F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8D4F-C800-48DA-898D-8A90C8BE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DDCA-744E-41D3-971C-D887AF01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CCAC7-1DC8-4FAF-AE4B-EFF1561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3E3E-D828-44E6-BB79-A7E806E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089BA-78A8-4B00-A206-4FD117C7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6834-8798-40B8-819B-6F9A1AF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93395-EC9D-4E0D-9363-E369F06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CB73-D865-45F5-B437-8296619A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BCE-EB60-486B-8042-C1A78E3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D692-9924-4DB1-8947-93B11490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BCE84-22D0-46C1-A6BF-46DD414D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9261-1F86-4D80-B3EF-F8A081EB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2625-17DD-4DA4-9097-1826F199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D420F-2CF5-4439-B3D9-BE86E5C7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CB158-E033-4DA6-B022-AF4F7C1E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E173-9287-4FE6-878E-1B7D12A4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5A46-657A-42E5-B59C-3B2BFF78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A6961-7C97-4C6E-8B83-630396E9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780D-19E6-41AE-806C-AED3B2A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345-FE15-4731-A68A-0199F79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CEDB-2728-4819-83AE-704E54FD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9634D-5629-4C7A-AC2D-FBB9F819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FD9C3-38B6-4BF3-9278-F3E208BE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A20F2-F888-4CE3-8E99-F6B4E742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642B-AB89-43DB-8758-2332CB0A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3945-DF25-4390-AC8D-6CC1DEAA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8C93A-4340-4AA9-AAD3-0F814B4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A362D-5FE9-43C6-A1F3-C140B54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EBF6E-BDAA-445E-A707-81A4CB0C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5C8A3-08F0-4711-A495-3D8E30C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585-AC52-4A02-9CDE-0A093D0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089A-E249-427F-A367-0C349088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D8977-922B-4D42-A56F-3358AE8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2074-E82B-47E7-9F9B-90854B8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C22EF-E1D0-4E79-A3F3-BA70BB9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30586-C740-409F-92C3-A38F9C53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1DA82-4D01-4A5C-AB58-58C701C6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9E7FE-81EC-4FD7-8326-F238A14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C04-3834-4843-BF55-1FE708870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A9CF-2BBD-47D1-85FB-5474C0156F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38D-2A79-4AC6-B7E1-0A50A6FB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ADBD-7522-436C-99C8-84D418E6DF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AFA-F001-49D1-BDFA-9613EA358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E60B-6D75-489F-A5EB-7B0C11D8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0F54-B790-4306-9683-8BA44249EA0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BEF-22C0-41CC-A010-17DEC157FED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949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ntent Placeholder 2" descr=""/>
          <p:cNvPicPr/>
          <p:nvPr/>
        </p:nvPicPr>
        <p:blipFill>
          <a:blip r:embed="rId1"/>
          <a:stretch/>
        </p:blipFill>
        <p:spPr>
          <a:xfrm>
            <a:off x="450720" y="1663560"/>
            <a:ext cx="4054680" cy="459108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"/>
          <p:cNvPicPr/>
          <p:nvPr/>
        </p:nvPicPr>
        <p:blipFill>
          <a:blip r:embed="rId2"/>
          <a:stretch/>
        </p:blipFill>
        <p:spPr>
          <a:xfrm>
            <a:off x="4645080" y="1663560"/>
            <a:ext cx="40482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s for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ste tenedo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s boo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 libr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se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os estudiant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se tabl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s mes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at for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e tenedo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at book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e libr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ose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s estudiant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ose tabl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as mesa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se point out things FAR FAR AWAY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THA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Century Gothic"/>
              </a:rPr>
              <a:t>THOS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 (m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os (mp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a (fs)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as (fp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 knife (over there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ose napkins (over there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jectives that refer to an idea, action or something that we don’t know what it is, we use the following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TO  ----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O  -----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QUELLO ----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at (over there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¿Qué es eso?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¿Qué es esto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0:41:48Z</dcterms:created>
  <dc:creator>Maple Lake</dc:creator>
  <dc:description/>
  <dc:language>en-US</dc:language>
  <cp:lastModifiedBy>Maple Lake</cp:lastModifiedBy>
  <dcterms:modified xsi:type="dcterms:W3CDTF">2008-10-09T16:46:08Z</dcterms:modified>
  <cp:revision>4</cp:revision>
  <dc:subject/>
  <dc:title>Demonstrative Adjectives</dc:title>
</cp:coreProperties>
</file>